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21C-F3F8-4F01-B7A4-F4609428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076-3C0F-423C-A3E5-D5F2530D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F41-01D5-485D-A68D-881FA72D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84C-255B-4BE9-872F-EBFDA5AF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4F8-AAF0-40A6-8634-AFBD27A5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440-F210-4B7F-91AA-7BA4747B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F65-E58C-4137-9BDB-74AE397A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23C-C67D-4F39-BAF2-F6D550E8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120-483F-417C-9673-8D62176B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1FD-E22E-47B1-AE4B-3E705B88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D85-6C21-4E01-BD88-CA157161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7EF-025E-42CF-AFFC-E7A37AC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2D79-EC67-4D28-B7BD-C46E230C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Writing for medical journ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9. Reviewers are often wro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be intimi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pp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0. There is no such thing as a rejected manuscri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’s just another unsubmitted manu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. Know your top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up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your research in a way that contributes to current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2. Know the jour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what journals are ou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the right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verything is a Lancet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o editors why thi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the journal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research, viewpoint, commentary, let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author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3. Peer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s 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s cred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4. All first drafts are rubb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your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 cri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people you trust: writing is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5. Avoid mistru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6. Unsubmitted manuscripts are anno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he draft out of your in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ass co-authors to send you back th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o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7. Make editors’ lives easi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cet editors read c.60 manuscript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ir lif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ver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8. Take reviewers serious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every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 as much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gree poli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8:51:57Z</dcterms:created>
  <dc:creator>Nathan</dc:creator>
  <dc:description/>
  <dc:language>en-US</dc:language>
  <cp:lastModifiedBy>TOR</cp:lastModifiedBy>
  <dcterms:modified xsi:type="dcterms:W3CDTF">2012-10-02T12:47:41Z</dcterms:modified>
  <cp:revision>13</cp:revision>
  <dc:subject/>
  <dc:title>When to start  A human rights analysis</dc:title>
</cp:coreProperties>
</file>